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25.gif" ContentType="image/gif"/>
  <Override PartName="/ppt/media/image10.gif" ContentType="image/gif"/>
  <Override PartName="/ppt/media/image8.wmf" ContentType="image/x-wmf"/>
  <Override PartName="/ppt/media/image12.gif" ContentType="image/gif"/>
  <Override PartName="/ppt/media/image3.jpeg" ContentType="image/jpeg"/>
  <Override PartName="/ppt/media/image15.png" ContentType="image/png"/>
  <Override PartName="/ppt/media/image7.gif" ContentType="image/gif"/>
  <Override PartName="/ppt/media/image18.wmf" ContentType="image/x-wmf"/>
  <Override PartName="/ppt/media/image9.wmf" ContentType="image/x-wmf"/>
  <Override PartName="/ppt/media/image14.png" ContentType="image/png"/>
  <Override PartName="/ppt/media/image6.gif" ContentType="image/gif"/>
  <Override PartName="/ppt/media/image17.wmf" ContentType="image/x-wmf"/>
  <Override PartName="/ppt/media/image5.wmf" ContentType="image/x-wmf"/>
  <Override PartName="/ppt/media/image4.jpeg" ContentType="image/jpeg"/>
  <Override PartName="/ppt/media/image29.png" ContentType="image/png"/>
  <Override PartName="/ppt/media/image16.wmf" ContentType="image/x-wmf"/>
  <Override PartName="/ppt/media/image28.jpeg" ContentType="image/jpeg"/>
  <Override PartName="/ppt/media/image26.wmf" ContentType="image/x-wmf"/>
  <Override PartName="/ppt/media/image27.gif" ContentType="image/gif"/>
  <Override PartName="/ppt/media/image23.wmf" ContentType="image/x-wmf"/>
  <Override PartName="/ppt/media/image22.png" ContentType="image/png"/>
  <Override PartName="/ppt/media/image21.wmf" ContentType="image/x-wmf"/>
  <Override PartName="/ppt/media/image19.gif" ContentType="image/gif"/>
  <Override PartName="/ppt/media/image20.jpeg" ContentType="image/jpeg"/>
  <Override PartName="/ppt/media/image24.wmf" ContentType="image/x-wmf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B99D-4D62-4012-A13D-84B03FBC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5E04-46BA-4AFE-BE32-0EB3327F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3776-A945-4313-A5A9-CA0AD322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C1C3-C922-46C8-87EE-1B2D7027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8038-1E90-48FC-A39D-21E46C3C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9B71-B388-4CAA-BBEB-5A2DEC7F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E9DC-CD2F-4C0B-88DA-A8D7808E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2718-DB7D-406C-890E-762C4F83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F358-C475-4B3F-BB97-FF9567FE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74DE-FE7A-4DBF-8060-52D279E2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EEBC-BAFA-4827-823E-1AA99B70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7DFA-1073-4018-80AA-B79A0A50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4E6D-B041-4056-A4C3-FEED10B4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416B-023F-44E6-9E74-B8929823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7B91-6E12-4990-8F84-B691C8EF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133E-E5A1-4646-9372-2B4F327D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0078-0867-447F-9637-7E9A8930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358A-D36F-4E8D-B9C1-A18AA580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8AA8-2F30-4E74-A5BA-63797FB2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4311-52B8-46B6-84FC-5A9CB145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A49D-C3E1-407C-A500-A34A889A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2887-50C3-4687-9910-F134C2A0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94C9-6574-4AD3-8332-C0CB195A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C51C-83D2-4CAE-B5D1-B95C8674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D365-D81B-495A-B98A-11998E36A76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1BB6-50A1-422D-8F1A-A6AB8284CC2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807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09480" y="609480"/>
            <a:ext cx="4038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Energy: Forms and Chan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hem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4689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Chemical Energy is required to bond atoms together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And when bonds are broken, energy is released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hem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5798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uel and food are forms of stored chemical energy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8098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lectromag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783120" cy="22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Power lines carry electromagnetic energy into your home in the form of electricit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90920" y="4191120"/>
            <a:ext cx="49528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lectromag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480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Light is a form of electromagnetic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ach color of light (Roy G Bv) represents a different amount of electromagnetic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lectromagnetic Energy is also carried by X-rays, radio waves, and laser ligh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400800" y="1752480"/>
            <a:ext cx="228600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The nucleus of an atom is the source of nuclear energy. 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35812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en the nucleus splits (fission), nuclear energy is released in the form of heat energy and light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Nuclear energy is also released when nuclei collide at high speeds and join (fuse)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3886200" cy="3962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562720" y="1981080"/>
            <a:ext cx="297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un’s energy is produced from a nuclear fusion reaction in which hydrogen nuclei fuse to form helium nucle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Nuclear energy is the most concentrated form of energy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189240" cy="3152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905120" y="5638680"/>
            <a:ext cx="556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Verdana"/>
              </a:rPr>
              <a:t>Most of us live within 10 miles of the Surry Nuclear Power Plant which converts nuclear energy into electromagnetic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Mechan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93576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When work is done to an object, it acquires energy. The energy it acquires is known as mechanical energy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Mechan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When you kick a football, you give mechancal energy to the football to make it move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8594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Energy is all around you!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You can hear energy as sound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You can see energy as light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And you can feel it as wind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29200" y="4572000"/>
            <a:ext cx="2979720" cy="1981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38080" y="4572000"/>
            <a:ext cx="2948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500" autoRev="1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500" autoRev="1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Mechan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2895840" cy="3962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24280" y="1905120"/>
            <a:ext cx="34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1981080"/>
            <a:ext cx="3429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hen you throw a balling ball, you give it energy. When that bowling ball hits the pins, some of the energy is transferred to the pins (transfer of momentum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nergy Conversion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can be changed from one form to another. Changes in the form of energy are called energy conversions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nergy conversion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All forms of energy can be converted into other form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e sun’s energy through solar cells can be converted directly into electricit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Green plants convert the sun’s energy (electromagnetic) into starches and sugars (chemical energy)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Other energy conversion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n an electric motor, electromagnetic energy is converted to mechanical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n a battery, chemical energy is converted into electromagnetic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e mechanical energy of a waterfall is converted to electrical energy in a generator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nergy Conversion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n an automobile engine, fuel is burned to convert chemical energy into heat energy. The heat energy is then changed into mechanical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3276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8960" y="3581280"/>
            <a:ext cx="7313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hemical </a:t>
            </a:r>
            <a:r>
              <a:rPr b="0" lang="en-US" sz="3600" spc="-1" strike="noStrike">
                <a:solidFill>
                  <a:srgbClr val="0066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Heat </a:t>
            </a:r>
            <a:r>
              <a:rPr b="0" lang="en-US" sz="3600" spc="-1" strike="noStrike">
                <a:solidFill>
                  <a:srgbClr val="0066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Mechanical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56272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States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most common energy conversion is the conversion between potential and kinetic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All forms of energy can be in either of two states: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Potentia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Kinetic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tates of Energy: </a:t>
            </a:r>
            <a:br>
              <a:rPr sz="3200"/>
            </a:b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Kinetic and Potential Energy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Kinetic Energy is the energy of motion.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Potential Energy is stored energy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Ki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energy of motion is called kinetic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faster an object moves, the more kinetic energy it ha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greater the mass of a moving object, the more kinetic energy it ha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Kinetic energy depends on both mass and velocit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Ki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                                           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K.E. =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Verdana"/>
              </a:rPr>
              <a:t>mass x velocity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at has a greater affect of kinetic energy, mass or velocity? Why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62920" y="2286000"/>
            <a:ext cx="1332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You use energy when you: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hit a softball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lift your book bag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ompress a spring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358128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otential Energy is stored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tored chemically in fuel, the nucleus of atom, and in food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Or stored because of the work done on it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retching a rubber ban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inding a watch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ulling back on a bow’s arrow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Lifting a brick high in the ai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Gravitational 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Potential energy that is dependent on height is called gravitational potential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119560" y="1981080"/>
            <a:ext cx="3476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478560" cy="17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nergy that is stored due to being stretched or compressed is called elastic potential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1587600" cy="1981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952880" y="3429000"/>
            <a:ext cx="1792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9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Gravitational 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0160" y="1827000"/>
            <a:ext cx="68594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A waterfall, a suspension bridge, and a falling snowflake all have gravitational potential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76520" y="3429000"/>
            <a:ext cx="6400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Gravitational 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f you stand on a 3-meter diving board, you have 3 times the G.P.E, than you had on a 1-meter diving board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57800" y="2209680"/>
            <a:ext cx="3200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Gravitational 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bigger they are the harder they fall” is not just a saying. It’s true. Objects with more mass have greater G.P.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formula to find G.P.E. i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G.P.E. = Weight X Height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Kinetic-Potential Energy Conversion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47920" y="2057400"/>
            <a:ext cx="6781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oller coasters work because of the energy that is built into the system. Initially, the cars are pulled mechanically up the tallest hill, giving them a great deal of potential energy. From that point, the conversion between potential and kinetic energy powers the cars throughout the entire ri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0" y="4191120"/>
            <a:ext cx="510552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Kinetic vs. 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370160" y="1827360"/>
            <a:ext cx="6975360" cy="31384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371600" y="55627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t the point of maximum potential energy, the car has minimum kinetic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Kinetic-Potential Energy Conversions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As a basketball player throws the ball into the air, various energy conversions take place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684760" y="2055960"/>
            <a:ext cx="2414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23623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ll slows 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34320" y="22860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ll speeds 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Living organisms need energy for growth and movement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3657600" cy="2531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34120" y="1676520"/>
            <a:ext cx="3047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he Law of Conservation of Energy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can be neither created nor destroyed by ordinary mean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t can only be converted from one form to another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f energy seems to disappear, then scientists look for it – leading to many important discoveri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Law of Conservation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In 1905, Albert Einstein said that mass and energy can be converted into each other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e showed that if matter is destroyed, energy is created, and if energy is destroyed mass is created.            </a:t>
            </a: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 = MC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Vocabulary Word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523520"/>
            <a:ext cx="7313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nerg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mechanical energ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heat energ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hemical energ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lectromagnetic energ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nuclear energ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kinetic energ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potential energ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gravitational potential energ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nergy conversion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Law of Conservation of Energ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nergy is involved when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 bird fli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 bomb explod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rain falls from the sky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electricity flows in a wire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105520" y="2108160"/>
            <a:ext cx="3733560" cy="3530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04920" y="4648320"/>
            <a:ext cx="1541520" cy="1803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324480" y="152280"/>
            <a:ext cx="177660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at is energy that it can be involved in so many different activities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can be defined as the ability to do work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If an object or organism does work (exerts a force over a distance to move an object) the object or organism uses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Because of the direct connection between energy and work, energy is measured in the same unit as work: joules (J)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In addition to using energy to do work, objects gain energy because work is being done on them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Forms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403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e five main forms of energy are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e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hemica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lectromagnetic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Nuclear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Mechanica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943600" y="2666880"/>
            <a:ext cx="189864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Heat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internal motion of the atoms is called heat energy, because moving particles produce heat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eat energy can be produced by frictio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eat energy causes changes in temperature and phase of any form of matter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3T23:14:26Z</dcterms:created>
  <dc:creator>Vicki Lewis</dc:creator>
  <dc:description/>
  <dc:language>en-US</dc:language>
  <cp:lastModifiedBy>lewisv</cp:lastModifiedBy>
  <dcterms:modified xsi:type="dcterms:W3CDTF">2006-11-06T13:22:21Z</dcterms:modified>
  <cp:revision>18</cp:revision>
  <dc:subject/>
  <dc:title>Energy:</dc:title>
</cp:coreProperties>
</file>